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4B0-146F-4C27-A277-3042596B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DC9-0EF3-4CE0-9EEF-B49FBDB2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3FB-BAFB-47EB-9E24-E2B337AB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01F-0CCE-47AB-8F0E-B31EECC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39C-A4AE-4516-8AF4-3BA8D48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D22-C71C-401A-A418-08F2654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00B-EBC3-4053-8F46-7086EEE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084-96D3-448A-836F-C5B8687C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726-921D-444E-A0FF-7AD6F81D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DE2-68AE-4D87-98FC-A64630A8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507-319B-434F-9AD5-BCB6FC6D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B71-3E29-48B7-960A-A95C4F5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E5E-BA68-40C9-A585-1B51D10FC9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ng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To Take Notes in Your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5730840"/>
            <a:ext cx="883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by Sharon Fulmer, Tiffany Holmes, &amp; Laura Ha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cademy of Irving, Texa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od Read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reading is skim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need to learn, reading requires close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reading is har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reading makes good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MCBD04983_0000[1]"/>
          <p:cNvPicPr/>
          <p:nvPr/>
        </p:nvPicPr>
        <p:blipFill>
          <a:blip r:embed="rId1"/>
          <a:stretch/>
        </p:blipFill>
        <p:spPr>
          <a:xfrm>
            <a:off x="7315200" y="2819520"/>
            <a:ext cx="157644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MCj02864480000[1]"/>
          <p:cNvPicPr/>
          <p:nvPr/>
        </p:nvPicPr>
        <p:blipFill>
          <a:blip r:embed="rId2"/>
          <a:stretch/>
        </p:blipFill>
        <p:spPr>
          <a:xfrm>
            <a:off x="2514600" y="4495680"/>
            <a:ext cx="1471680" cy="1808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720" y="6461280"/>
            <a:ext cx="379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Bedford Rea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ittle, Brown 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ation by Laura Ha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s: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one “right” way to annotate (take notes) as you 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l principles for good annotating to keep in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rginal notes in the 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ing Notes is not just summarizing. Ask questions and write and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ose reading takes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ing time as you read will save you time and anxiety later as you discuss &amp; write about the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viewing: Before You Anno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226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a quiet place with no distractions (this means no music, cell phone, or T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includes author’s subject or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the auth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already know helps you guess something about the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ographical sketch is provided, read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367760" y="5072040"/>
            <a:ext cx="1776240" cy="1785960"/>
            <a:chOff x="7367760" y="5072040"/>
            <a:chExt cx="1776240" cy="1785960"/>
          </a:xfrm>
        </p:grpSpPr>
        <p:sp>
          <p:nvSpPr>
            <p:cNvPr id="54" name="Music"/>
            <p:cNvSpPr/>
            <p:nvPr/>
          </p:nvSpPr>
          <p:spPr>
            <a:xfrm>
              <a:off x="7848720" y="5452920"/>
              <a:ext cx="743040" cy="1067040"/>
            </a:xfrm>
            <a:custGeom>
              <a:avLst/>
              <a:gdLst>
                <a:gd name="textAreaLeft" fmla="*/ 274680 w 743040"/>
                <a:gd name="textAreaRight" fmla="*/ 721080 w 743040"/>
                <a:gd name="textAreaTop" fmla="*/ 45720 h 1067040"/>
                <a:gd name="textAreaBottom" fmla="*/ 26496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MCj03036750000[1]"/>
            <p:cNvPicPr/>
            <p:nvPr/>
          </p:nvPicPr>
          <p:blipFill>
            <a:blip r:embed="rId1"/>
            <a:stretch/>
          </p:blipFill>
          <p:spPr>
            <a:xfrm>
              <a:off x="7367760" y="5072040"/>
              <a:ext cx="1776240" cy="17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Rectangle 7"/>
          <p:cNvSpPr/>
          <p:nvPr/>
        </p:nvSpPr>
        <p:spPr>
          <a:xfrm>
            <a:off x="76680" y="6384960"/>
            <a:ext cx="379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Bedford Rea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ittle, Brown 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ation by Laura Ha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viewing: Before You Anno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hat was it publish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you be more likely to believe “Living Mermaids:  An Amazing Discovery” if it were published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Americ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National Enquir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for whom it was 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as it publish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’s about mermaids, will you find it more reliable if written in 1988 or 1788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Cj01160220000[1]"/>
          <p:cNvPicPr/>
          <p:nvPr/>
        </p:nvPicPr>
        <p:blipFill>
          <a:blip r:embed="rId1"/>
          <a:stretch/>
        </p:blipFill>
        <p:spPr>
          <a:xfrm>
            <a:off x="7315200" y="4800600"/>
            <a:ext cx="98748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76680" y="6384960"/>
            <a:ext cx="379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Bedford Rea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ittle, Brown 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ation by Laura Ha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2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with a pen or pencil in hand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you focus and stay ale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your own code / symbols &amp; be CONSISTENT with your syst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breviate using things such as brackets, stars, exclamation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a list of characters &amp; their key tra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good place: inside cover of the 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brief notes to your lists as you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k for patt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deas do you see repeated?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onnections can you draw between different concep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j0223756"/>
          <p:cNvPicPr/>
          <p:nvPr/>
        </p:nvPicPr>
        <p:blipFill>
          <a:blip r:embed="rId1"/>
          <a:stretch/>
        </p:blipFill>
        <p:spPr>
          <a:xfrm>
            <a:off x="6629400" y="526896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your own code / symbols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id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ing 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use and ef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(Now brainstorm key concepts with your tab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line/highlight – CAUTION: Use this sparing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line/highlight only a few wor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ver underline an entire pass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end of each chapter, bullet-point the key events as a summary or write a short summ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j0223755"/>
          <p:cNvPicPr/>
          <p:nvPr/>
        </p:nvPicPr>
        <p:blipFill>
          <a:blip r:embed="rId1"/>
          <a:stretch/>
        </p:blipFill>
        <p:spPr>
          <a:xfrm>
            <a:off x="6477120" y="152388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2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a CONVERSATION with the text. Talk back to i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e your time as you begin a new text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self many questions as you be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there any fallacies in the text?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this relate to your everyday exper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formula will help me solve this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y to make a quick note on the top of each page indicating the most important point t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questions (essential to active reading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question mark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alert to what puzzles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readers do not zip along without stopping to monitor their comprehension.  They stop to think and to note what they don’t understan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down questions you would like to discu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annotations must include comments as evidence of think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j0304299"/>
          <p:cNvPicPr/>
          <p:nvPr/>
        </p:nvPicPr>
        <p:blipFill>
          <a:blip r:embed="rId1"/>
          <a:stretch/>
        </p:blipFill>
        <p:spPr>
          <a:xfrm>
            <a:off x="7086600" y="5877000"/>
            <a:ext cx="19051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2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course, you should always pay attention to VOCABULAR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trong vocabulary comes from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not from memorizing lis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includes many words that will be new to yo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k these wor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 to determine meaning from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you are really puzzled by a word, look it up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WordArt 18"/>
          <p:cNvSpPr txBox="1"/>
          <p:nvPr/>
        </p:nvSpPr>
        <p:spPr>
          <a:xfrm rot="20053800">
            <a:off x="691920" y="3935520"/>
            <a:ext cx="18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op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WordArt 19"/>
          <p:cNvSpPr txBox="1"/>
          <p:nvPr/>
        </p:nvSpPr>
        <p:spPr>
          <a:xfrm rot="20053800">
            <a:off x="3179880" y="4192200"/>
            <a:ext cx="24796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pothesi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WordArt 20"/>
          <p:cNvSpPr txBox="1"/>
          <p:nvPr/>
        </p:nvSpPr>
        <p:spPr>
          <a:xfrm rot="20053800">
            <a:off x="5502240" y="4311360"/>
            <a:ext cx="325296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oeconomic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mification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01:50Z</dcterms:created>
  <dc:creator>Laura Hayes</dc:creator>
  <dc:description/>
  <dc:language>en-US</dc:language>
  <cp:lastModifiedBy>McGrath Edward J</cp:lastModifiedBy>
  <cp:lastPrinted>2009-02-19T17:16:46Z</cp:lastPrinted>
  <dcterms:modified xsi:type="dcterms:W3CDTF">2014-02-10T17:42:47Z</dcterms:modified>
  <cp:revision>18</cp:revision>
  <dc:subject/>
  <dc:title>Annotating Texts</dc:title>
</cp:coreProperties>
</file>